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54C4-68B6-4FB2-8C7C-A4E3A6AE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F00-33C8-44BC-A3E8-FD075A19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9253-3DE4-4F2A-94C7-41D48336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3A6-4508-42BA-B71B-2258469C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850D-72A2-458B-BFE6-D246C7D2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1EEE-34DB-458E-8F88-0DDDD38C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E58A-8D83-41DF-BEF4-CB49D023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5D2A-7403-434D-A46F-23873558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347C-BD41-4D58-B0C6-EA18B4FE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E6EB-35E4-4990-9A15-432A3993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8C0A-3D56-4C0D-907C-7534FA4D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027F-7983-41B7-AEEA-B9581355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6F8A-ADEB-4EF0-9B36-78B9E6BA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ED88-11C7-47A1-B5CE-FD8719E9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3C30-E33D-4C56-A739-4658210D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D821-F9E4-442F-AF33-7F00DEAA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C430-6F84-4B5F-8643-BE04560D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793-4C22-473D-8858-5049D97D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5F5-7F54-4FB8-B6CC-738B65F8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6A0-1E4A-4696-8FE4-B4F77B6F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42D-9B19-4201-A6B5-031F44AD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E11-2297-4922-BCE6-C28BE6E0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710-B31C-4457-9486-6EBB77E9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6F3-64B9-4A52-80A5-52915346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2724-5502-4C80-BFEE-544B5895A86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HRE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21D3-3D81-49CF-9AFA-0D8DF60DCD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A9611CBD-B9E3-48B9-BBA7-89CE0B3E9DE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928800" y="2224080"/>
            <a:ext cx="73580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ἀδελφη λεγει τῳ Ἰησου∙ Κυριε, πιστευω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ω τα ἐργα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φιλει τον υἱον και λαλει αὐτ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μβανομεν και τηρουμ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 βιβλια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ὀχλος λεγει τῳ Ἰησου∙ Δαιμονιον ἐχ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τρε, διδασκεις την βασιλειαν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02F48BB8-5E89-48CF-AEED-789EA069911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000080" y="1625760"/>
            <a:ext cx="7358040" cy="46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ἱ ἀδελφαι και οἱ ἀδελφοι τηρουσι τους νομους και το σαββα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 σαββατον τηρει ὁ υἱος του ἀνθρωπ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ir church is seeking the glory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ul teaches the household of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thers and sisters, you (pl.) are receiving the love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hildren are throwing s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928800" y="2224080"/>
            <a:ext cx="75009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 αὐτοις τον λογον ὁ Ἰησ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 τεκνα λυει το πλο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Μαρια ἀκουει την φωνην της θαλασσ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ομεν τα σημεια του εὐαγγελιου του κυρι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ων ἐστι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βασιλεια των οὐραν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ἀγαπη του θεου καλει τας ψυχας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000080" y="1625760"/>
            <a:ext cx="735804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ποιει τας ἡμερας και τας ὡρας της ζω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ειτε την δοξαν του προσωπου του θε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receives the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ul, do you believe the angel of the Lo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making the bread of the te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you see the sins of the he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642960" y="2500200"/>
            <a:ext cx="8143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χὴ τοῦ εὐαγγελί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ησοῦ Χριστοῦ υἱοῦ θεο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12:13:19Z</dcterms:created>
  <dc:creator>Sarah</dc:creator>
  <dc:description/>
  <dc:language>en-US</dc:language>
  <cp:lastModifiedBy>Sarah</cp:lastModifiedBy>
  <dcterms:modified xsi:type="dcterms:W3CDTF">2008-12-30T22:30:24Z</dcterms:modified>
  <cp:revision>16</cp:revision>
  <dc:subject/>
  <dc:title>Slide 1</dc:title>
</cp:coreProperties>
</file>